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D2F2-28F6-4E7D-AEEA-3145A356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86B-942C-4CEA-B944-EF45CE87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0F87-FA61-4EB2-8369-C54BA17D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086-503E-4A55-87A2-0540615B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C00-91F2-42C8-8571-E6D9B0C9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253-03AF-4CDB-AABF-F94FE093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BB5-7169-4049-8162-3BC8AD5D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CC6-B40A-405E-AD75-6EB13B30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C0C-4DA3-49F4-827E-C6EEFEFB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ED51-8790-482D-8318-2CC7D54B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B627-9C68-43FB-A304-B7172708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8D3-BFA0-4182-85D8-6878F080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2A70-9D98-4BAC-8B2E-FC1BBF53F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1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able GTCH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676520" y="1054080"/>
          <a:ext cx="6095880" cy="21621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CH1 check lab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676520" y="3200400"/>
          <a:ext cx="6095880" cy="2193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able GTCH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676520" y="1638360"/>
          <a:ext cx="6095880" cy="21621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CH2 check lab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1676520" y="3784680"/>
          <a:ext cx="6095880" cy="2193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able 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76520" y="1638360"/>
          <a:ext cx="6095880" cy="21621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c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 check lab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B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676520" y="3784680"/>
          <a:ext cx="6095880" cy="2193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D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equêtes indépend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1430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imes New Roman"/>
              </a:rPr>
              <a:t>Pour un client donné ex : AAA, chaque requête renvoi les résultats suiva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2790720"/>
          <a:ext cx="3657600" cy="1476360"/>
        </p:xfrm>
        <a:graphic>
          <a:graphicData uri="http://schemas.openxmlformats.org/drawingml/2006/table">
            <a:tbl>
              <a:tblPr/>
              <a:tblGrid>
                <a:gridCol w="16002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CH1 check la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572000" y="2819520"/>
          <a:ext cx="3733920" cy="1158840"/>
        </p:xfrm>
        <a:graphic>
          <a:graphicData uri="http://schemas.openxmlformats.org/drawingml/2006/table">
            <a:tbl>
              <a:tblPr/>
              <a:tblGrid>
                <a:gridCol w="1600200"/>
                <a:gridCol w="2133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CH2 check la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40" y="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Résultat souhaité avec une requête u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2944800"/>
          <a:ext cx="8458200" cy="2846160"/>
        </p:xfrm>
        <a:graphic>
          <a:graphicData uri="http://schemas.openxmlformats.org/drawingml/2006/table">
            <a:tbl>
              <a:tblPr/>
              <a:tblGrid>
                <a:gridCol w="1905120"/>
                <a:gridCol w="2286000"/>
                <a:gridCol w="2362320"/>
                <a:gridCol w="19047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tomer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CH1 check 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TCH2 check 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T check lab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ien a afficher i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ien a afficher i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ien a afficher i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ien a afficher i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80880" y="15238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imes New Roman"/>
              </a:rPr>
              <a:t>On renseigne le code du client pour lequel on veut voir les infos (ici AAA) et on obtient le tableau suivant (conformément aux 3 tableaux précéden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8:52:29Z</dcterms:created>
  <dc:creator>GENIN_G</dc:creator>
  <dc:description/>
  <dc:language>en-US</dc:language>
  <cp:lastModifiedBy>GENIN_G</cp:lastModifiedBy>
  <dcterms:modified xsi:type="dcterms:W3CDTF">2008-06-03T08:52:45Z</dcterms:modified>
  <cp:revision>1</cp:revision>
  <dc:subject/>
  <dc:title>Table GTCH1</dc:title>
</cp:coreProperties>
</file>